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4C68-F4C6-44A4-B41D-0D89BD82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D82-4A4B-4456-8CDA-3BD80A65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519A-DFB6-45AC-822E-D98527CD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630-2030-4F72-B5EC-AAAC2E4E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706-1BA5-4F72-B2C2-1883618A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2D8F-3208-4528-8C76-0C677325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B1C-B19C-4722-8F48-D1E9E7F2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53D-2CB1-49B7-B021-295AADD1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C5A-D142-4748-8BB4-8CF863E5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7FF1-E6D4-49BE-959C-5A591CC8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A2B4-A857-4A09-B226-FEA84B55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07B2-D595-4C6A-A616-DAE88A4F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1" marL="438120" indent="-168480">
              <a:spcBef>
                <a:spcPts val="1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2" marL="674280" indent="-134640"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3" marL="943920" indent="-134640">
              <a:spcBef>
                <a:spcPts val="1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4" marL="1213560" indent="-134640">
              <a:spcBef>
                <a:spcPts val="134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5" marL="1213560" indent="-134640">
              <a:spcBef>
                <a:spcPts val="134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6" marL="1213560" indent="-134640">
              <a:spcBef>
                <a:spcPts val="134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6B8C-4E3C-4BD3-8D16-E84A37DE9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5.xml"/><Relationship Id="rId6" Type="http://schemas.openxmlformats.org/officeDocument/2006/relationships/slide" Target="slide15.xml"/><Relationship Id="rId7" Type="http://schemas.openxmlformats.org/officeDocument/2006/relationships/slide" Target="slide25.xml"/><Relationship Id="rId8" Type="http://schemas.openxmlformats.org/officeDocument/2006/relationships/slide" Target="slide35.xml"/><Relationship Id="rId9" Type="http://schemas.openxmlformats.org/officeDocument/2006/relationships/slide" Target="slide7.xml"/><Relationship Id="rId10" Type="http://schemas.openxmlformats.org/officeDocument/2006/relationships/slide" Target="slide17.xml"/><Relationship Id="rId11" Type="http://schemas.openxmlformats.org/officeDocument/2006/relationships/slide" Target="slide27.xml"/><Relationship Id="rId12" Type="http://schemas.openxmlformats.org/officeDocument/2006/relationships/slide" Target="slide37.xml"/><Relationship Id="rId13" Type="http://schemas.openxmlformats.org/officeDocument/2006/relationships/slide" Target="slide9.xml"/><Relationship Id="rId14" Type="http://schemas.openxmlformats.org/officeDocument/2006/relationships/slide" Target="slide19.xml"/><Relationship Id="rId15" Type="http://schemas.openxmlformats.org/officeDocument/2006/relationships/slide" Target="slide29.xml"/><Relationship Id="rId16" Type="http://schemas.openxmlformats.org/officeDocument/2006/relationships/slide" Target="slide39.xml"/><Relationship Id="rId17" Type="http://schemas.openxmlformats.org/officeDocument/2006/relationships/slide" Target="slide11.xml"/><Relationship Id="rId18" Type="http://schemas.openxmlformats.org/officeDocument/2006/relationships/slide" Target="slide21.xml"/><Relationship Id="rId19" Type="http://schemas.openxmlformats.org/officeDocument/2006/relationships/slide" Target="slide31.xml"/><Relationship Id="rId20" Type="http://schemas.openxmlformats.org/officeDocument/2006/relationships/slide" Target="slide41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Jeopardy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0010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2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5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9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800"/>
                            </p:stCondLst>
                            <p:childTnLst>
                              <p:par>
                                <p:cTn id="13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14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600"/>
                            </p:stCondLst>
                            <p:childTnLst>
                              <p:par>
                                <p:cTn id="18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19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3400"/>
                            </p:stCondLst>
                            <p:childTnLst>
                              <p:par>
                                <p:cTn id="23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24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8200"/>
                            </p:stCondLst>
                            <p:childTnLst>
                              <p:par>
                                <p:cTn id="28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29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30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34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7800"/>
                            </p:stCondLst>
                            <p:childTnLst>
                              <p:par>
                                <p:cTn id="38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39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1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2600"/>
                            </p:stCondLst>
                            <p:childTnLst>
                              <p:par>
                                <p:cTn id="43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44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7400"/>
                            </p:stCondLst>
                            <p:childTnLst>
                              <p:par>
                                <p:cTn id="48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49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1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2200"/>
                            </p:stCondLst>
                            <p:childTnLst>
                              <p:par>
                                <p:cTn id="53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54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7000"/>
                            </p:stCondLst>
                            <p:childTnLst>
                              <p:par>
                                <p:cTn id="58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59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1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1800"/>
                            </p:stCondLst>
                            <p:childTnLst>
                              <p:par>
                                <p:cTn id="63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64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tosis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4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telophas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5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n this phase, chromatids move to opposite ends of the cell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tosis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5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anaphase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eiosi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structure formed when homologous chromosomes pair up in prophase I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eiosi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1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a tetrad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eiosis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ur new daughter cells form in this phas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eiosi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telophase II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eiosis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3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Paired chromosomes exchange genes in prophase I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eiosi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3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crossing over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eiosis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400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 cell with one set of chromosomes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609480"/>
          <a:ext cx="8229600" cy="5694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295280"/>
                <a:gridCol w="1447920"/>
              </a:tblGrid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to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o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cabula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tosis, Meiosis 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o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vi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yc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eiosi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4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a haploid cell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eiosis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500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 mature female sex cell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eiosi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5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an oocyte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00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term for sex chromosomes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a gamete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airs of chromosomes with similar genetic information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are homologous chromosomes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3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 chromosome number that is abbreviated 2n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3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a diploid number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4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process of making sperm from a spermatocyte. </a:t>
            </a:r>
            <a:br>
              <a:rPr sz="5400"/>
            </a:b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tosi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00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In metaphase, these attach to centromeres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4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spermatogensis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500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airs of somatic chromosomes; every cell somatic cell has 44 of them.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Vocabulary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5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are autosomes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, Meiosis, or Both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 mother cell divides into two daughter cells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, Meiosis, or Both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mitosis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, Meiosis, or Both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NA is present in cells.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, Meiosis, or Both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both mitosis and meiosis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, Meiosis, or Both 3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omatic cells divide.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, Meiosis, or Both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3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mitosis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, Meiosis, or Both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4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aughter cells have identical genetic information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tosis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1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are spindle fibers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tosis, Meiosis, or Both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4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mitosis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aughter cells have variation in genetic information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129528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aily Doub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8088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, Meiosis, or Bot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tosis, Meiosis, or Both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Daily Double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meiosis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ell Divisi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division of cytoplasm.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ll Division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1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cytokinesis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ell Division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n interphase, DNA replicates in this stag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ell Division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the S phase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ll Divis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97120" y="2286000"/>
            <a:ext cx="381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aily Doub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3352680"/>
            <a:ext cx="746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two types of cell division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ell Division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aily Double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What is mitosis and cytokinesis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ell Division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4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n a plant cell, this structure develops between the two new cells during cytokinesis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n this phase, the nuclear membrane disappears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8862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ll Division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4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a cell plate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ell Division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5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The number of chromosomes in daughter cells after mitosis.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ll Division </a:t>
            </a:r>
            <a:br>
              <a:rPr sz="54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5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What is 46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ell Cycl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longest phase in the cell cycl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ll Cycle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1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interphase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ell Cycle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NA is present is formed during interphas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ll Cycle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chromatin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ell Cycle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3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cell grows in this phas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ll Cycle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3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the G</a:t>
            </a:r>
            <a:r>
              <a:rPr b="0" lang="en-US" sz="5400" spc="-1" strike="noStrike" baseline="-18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phase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ell Cycle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4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two parts of the cell cycl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tosis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prophase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ll Cycle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4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are mitosis and interphase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ell Cycle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5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Uncontrollable cell growth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ll Cycle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5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cancer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Final Jeopardy!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ll Cycl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ll Cycl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Tahoma"/>
              </a:rPr>
              <a:t>Undetermined cells that were proposed to replace damaged specialized cells.</a:t>
            </a:r>
            <a:endParaRPr b="0" lang="en-US" sz="5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7923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re stem cell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3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hromosomes line up in the center of the cell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tosis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300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metaphase?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00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nuclear membrane reappears in this phas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4:12:54Z</dcterms:created>
  <dc:creator>Opelika City Schools</dc:creator>
  <dc:description/>
  <dc:language>en-US</dc:language>
  <cp:lastModifiedBy>Leon Walker</cp:lastModifiedBy>
  <dcterms:modified xsi:type="dcterms:W3CDTF">2008-02-23T18:55:54Z</dcterms:modified>
  <cp:revision>134</cp:revision>
  <dc:subject/>
  <dc:title>“Put that in the Form of a Question, Please!”</dc:title>
</cp:coreProperties>
</file>